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ACDC-A222-4918-9B34-BD436F58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08F1-AB68-4C58-AF06-2BBAF00A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2521-82BC-44C8-9EBC-C7E4C051C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6A80-A6C0-4F7B-82E7-F3457A722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68D8-7E38-4BA5-9C8F-0D685E98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1986-32D0-495A-AD41-4AF87189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98D0-9DFC-4AC4-995E-A1C703C0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7F83-3C33-41C6-8BDD-3391E1E9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CE31-3F01-4E33-A7ED-4B121AF8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7DC2-AC95-42C3-A814-8BD2C06D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065C-E16C-4DF4-9A51-1EF532ED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6940-0245-4BBD-95EC-084C4A68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383F-5BB1-4AC5-9C69-771DE0621C7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752480"/>
            <a:ext cx="6400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ثال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تطوير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AB0C-A4EC-494D-986E-EC5288B7A35E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466640"/>
            <a:ext cx="815328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عن ل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3295800"/>
            <a:ext cx="792504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معلومات عن العاملين وأعدادهم وأعمارهم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DA30-B3FA-4201-A883-F061644D12A5}" type="slidenum">
              <a:t>10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1537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عن الموارد البش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36708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معلومات مالية عن تكلفة اختيار وتعيين وتدريب ا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F86D-C852-4FCD-97C4-852F943DB503}" type="slidenum">
              <a:t>11</a:t>
            </a:fld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60920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اجتم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3438360"/>
            <a:ext cx="792504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بيان كل من نفقات وعوائد المشروعات الاجتماعية وحماية البيئ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DD95-97B0-4806-90D2-F6B68C1D17DA}" type="slidenum">
              <a:t>12</a:t>
            </a:fld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456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بالقيمة المضا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438360"/>
            <a:ext cx="784872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بيان مدى مساهمة كل عامل من عوامل الانتاج في الدخل المحق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6237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B0FA-515E-4369-8F31-73A7A9FA9BBB}" type="slidenum">
              <a:t>13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85160" y="2242440"/>
            <a:ext cx="7488000" cy="3897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طورت التقارير المالية من حيث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كمية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نوع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طريقة عرض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الحد الادنى الضروري من المعلومات التي يجب الإفص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   عن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765000"/>
            <a:ext cx="7705440" cy="1079640"/>
          </a:xfrm>
          <a:prstGeom prst="bevel">
            <a:avLst>
              <a:gd name="adj" fmla="val 2644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طور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2554-2B50-4173-A5C6-0C11B15A0E93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92468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ماذا ظهرت الدعوة إلى تطوير التقارير المالية؟؟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3352320"/>
            <a:ext cx="7848360" cy="18766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عدم وفاء التقارير المالية بشكلها الحالي باحتياجات المستفيدين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E889-C6E5-451D-B093-1CF95B789045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32040"/>
            <a:ext cx="7772400" cy="768240"/>
          </a:xfrm>
          <a:prstGeom prst="rect">
            <a:avLst/>
          </a:prstGeom>
          <a:gradFill rotWithShape="0">
            <a:gsLst>
              <a:gs pos="0">
                <a:srgbClr val="c5ffc5"/>
              </a:gs>
              <a:gs pos="50000">
                <a:srgbClr val="ffffff"/>
              </a:gs>
              <a:gs pos="100000">
                <a:srgbClr val="c5f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ي مظاهر هذا التطور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3040" y="2000160"/>
            <a:ext cx="7772400" cy="4172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قطاع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متعددة الأغراض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دورية (الفترية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مستقبل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موجز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للعامل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عن الموارد البشر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حاسبة الاجتماع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بالقيمة المضاف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2F51-36B7-4C2C-A3FF-934ABDF934BD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537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قط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3367080"/>
            <a:ext cx="822960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الافصاح حسب الانتاج أو المناطق الجغراف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97E8-5B07-4261-93CF-5119C4B9CC7E}" type="slidenum">
              <a:t>5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8205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متعددة الاغرا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438360"/>
            <a:ext cx="800100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عدة طرق مثل تكلفة الاحلال أو الجا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E8B6-D6AE-46C2-A7A0-DD0B116ADCF7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37920"/>
            <a:ext cx="784872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دورية (الفتري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36708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فترات قصيرة ربع سنوية مثل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CA6D-9334-4CC6-945C-C3803EFE3008}" type="slidenum">
              <a:t>7</a:t>
            </a:fld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1537920"/>
            <a:ext cx="79246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مستقبل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367080"/>
            <a:ext cx="815364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وائم معتمدة على تنبؤات مستقب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F914-1A11-45A5-AFBC-8DC325F46ABB}" type="slidenum">
              <a:t>8</a:t>
            </a:fld>
          </a:p>
        </p:txBody>
      </p:sp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79246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موجز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7180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  <a:cs typeface="PT Bold Heading"/>
              </a:rPr>
              <a:t>المختصر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8A71-77D7-4504-976B-AA56DA2A71F1}" type="slidenum">
              <a:t>9</a:t>
            </a:fld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7T21:54:19Z</dcterms:modified>
  <cp:revision>28</cp:revision>
  <dc:subject/>
  <dc:title>التحليل المالي والائتماني</dc:title>
</cp:coreProperties>
</file>